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5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272-37E4-4D3C-A32F-9BFE81FF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8A7-5260-43B6-8D14-B0619D14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E14-A6BB-4620-9891-7BB673ED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826-A71D-416A-9529-4E246E17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B62-F29C-4AD8-BFE9-7AF51F08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DFD-843D-4FB7-8D8C-38BC35B5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E24-E074-4C2E-AD67-844F10E5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5D1-D5D6-4C06-95B7-26FD4D3C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E42-5404-4F25-A880-F22509DF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7A7-A9F8-4162-92B9-7E962C23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67B-BDEA-43E8-820B-7EF27AC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367-E4E7-4547-AA16-BDBD8E3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13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43e7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43e7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1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A948-0A6B-4E1F-848B-7600E6A23BE7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p-doctor.ru/eye/eye.php" TargetMode="External"/><Relationship Id="rId2" Type="http://schemas.openxmlformats.org/officeDocument/2006/relationships/hyperlink" Target="http://comp-doctor.ru/psi/psi.php" TargetMode="External"/><Relationship Id="rId3" Type="http://schemas.openxmlformats.org/officeDocument/2006/relationships/hyperlink" Target="http://comp-doctor.ru/articles/art_0005.php" TargetMode="External"/><Relationship Id="rId4" Type="http://schemas.openxmlformats.org/officeDocument/2006/relationships/hyperlink" Target="http://comp-doctor.ru/stress/stress.php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 rot="21065400">
            <a:off x="534240" y="2115360"/>
            <a:ext cx="8076960" cy="3313440"/>
          </a:xfrm>
          <a:prstGeom prst="rect">
            <a:avLst/>
          </a:prstGeom>
          <a:gradFill rotWithShape="0">
            <a:gsLst>
              <a:gs pos="0">
                <a:srgbClr val="d4d4d6"/>
              </a:gs>
              <a:gs pos="100000">
                <a:srgbClr val="60b5cc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«Компьютер и здоровь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18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08720" y="4724280"/>
            <a:ext cx="3295440" cy="237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4" descr="j0285750"/>
          <p:cNvPicPr/>
          <p:nvPr/>
        </p:nvPicPr>
        <p:blipFill>
          <a:blip r:embed="rId1"/>
          <a:stretch/>
        </p:blipFill>
        <p:spPr>
          <a:xfrm>
            <a:off x="2357280" y="0"/>
            <a:ext cx="3635640" cy="223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835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Болезни от компьютера</a:t>
            </a: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412640"/>
            <a:ext cx="8183520" cy="489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372360" y="134136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емор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6372360" y="278136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ста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300720" y="422100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ллер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684360" y="414972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нне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инд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39640" y="126828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и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835280" y="5516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Угроз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кидыш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у берем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468360" y="278136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5076720" y="5516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стеохондр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3492360" y="278136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худш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р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3564000" y="4292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руш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сих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5" descr="j0285750"/>
          <p:cNvPicPr/>
          <p:nvPr/>
        </p:nvPicPr>
        <p:blipFill>
          <a:blip r:embed="rId1"/>
          <a:stretch/>
        </p:blipFill>
        <p:spPr>
          <a:xfrm>
            <a:off x="3924360" y="1197000"/>
            <a:ext cx="1295280" cy="795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Исследование </a:t>
            </a:r>
            <a:br>
              <a:rPr sz="3200"/>
            </a:b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(Анкетирование обучающихся, учителей, родителей)</a:t>
            </a:r>
            <a:endParaRPr b="1" lang="en-US" sz="2000" spc="-1" strike="noStrike">
              <a:solidFill>
                <a:srgbClr val="ffc13d"/>
              </a:solidFill>
              <a:latin typeface="Verdana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>
            <a:lum bright="-6000"/>
          </a:blip>
          <a:srcRect l="34331" t="17079" r="30492" b="17375"/>
          <a:stretch/>
        </p:blipFill>
        <p:spPr>
          <a:xfrm>
            <a:off x="2701800" y="1555920"/>
            <a:ext cx="3316320" cy="482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Памятка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rcRect l="31230" t="17621" r="30935" b="15307"/>
          <a:stretch/>
        </p:blipFill>
        <p:spPr>
          <a:xfrm>
            <a:off x="3564000" y="476280"/>
            <a:ext cx="4095720" cy="59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183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468360" y="981000"/>
          <a:ext cx="828036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8280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318960" y="981000"/>
          <a:ext cx="838692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981000"/>
                    <a:ext cx="838692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324000" y="907920"/>
          <a:ext cx="8137440" cy="59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13744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395280" y="1019160"/>
          <a:ext cx="835344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19160"/>
                    <a:ext cx="835344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324000" y="981000"/>
          <a:ext cx="8424720" cy="552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42472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8360" y="855720"/>
          <a:ext cx="8424720" cy="572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55720"/>
                    <a:ext cx="842472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татья в районную газету «Вестник района»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183520" cy="522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«Компьютер и здоровье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пьютер - устройство современного мира, которое практически каждый из нас использует в своей жизни. Но всегда ли работа за компьютером приносит нам пользу? Мы часто забываем о своем здоровье. Проблема как использовать компьютер в жизни, но при этом остаться здоровым, актуальна в наше время. Поэтому учащиеся 10 «Б» класса МОУ «Средняя школа №1 п. Советский», Бирюков Женя, Михайлов Артем, Макаров Павел под руководством учителя информатики Сарапкиной Марины Михайловны, поставили цель разработать проект, где конечным продуктом станет набор рекомендаций школьникам и их родителям по здоровьесбережению во время работы за компьютером. Одна из главных целей при работе над проектом - это пропаганда здорового образа жизн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Хотелось бы обратиться к родителям, у которых дети часто работают за компьютер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ьте комфортное рабочее место ребёнк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льное освещение (компьютер не должен располагаться напротив окн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ьную мебель (стол, стул с регулируемой высотой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чественное оборудование и программное обеспеч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едите, чтобы комната проветривалас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жедневно проводите влажную уборку с антистатико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Проконтролируйте работу ребенка за компьютером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прерывная длительность занятий за компьютером не должна превышать: в 1 кл –10 мин, 2-5 кл –15 мин, 6-7 кл - 20 мин, 8-9 кл - 25 мин,  10 -11 кл- 30 мин, необходимы обязательные перерывы, сопровождаемые гимнастическими упражнения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ая длительность занятий не должна превышать 45- 90 мин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кратите игровое время до минимум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райтесь исключить агрессивные компьютерные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Будьте внимательны к деятельности ребёнка за компьютером!!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1"/>
          <p:cNvPicPr/>
          <p:nvPr/>
        </p:nvPicPr>
        <p:blipFill>
          <a:blip r:embed="rId1"/>
          <a:srcRect l="37429" t="31512" r="6736" b="17634"/>
          <a:stretch/>
        </p:blipFill>
        <p:spPr>
          <a:xfrm>
            <a:off x="539640" y="1484280"/>
            <a:ext cx="7848720" cy="5154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28760" y="33073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Цель проекта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199280" cy="374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Изучение влияния компьютера на здоровье человек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Пропаганда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5" descr="BS01601_"/>
          <p:cNvPicPr/>
          <p:nvPr/>
        </p:nvPicPr>
        <p:blipFill>
          <a:blip r:embed="rId1"/>
          <a:stretch/>
        </p:blipFill>
        <p:spPr>
          <a:xfrm>
            <a:off x="6156360" y="3716280"/>
            <a:ext cx="246996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Информационные презентации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183520" cy="505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Техника безопасности в компьютерном кла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орудование рабочего места за компьютер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лияние компьютера на позвоноч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лияние компьютера на психи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лияние компьютера на кисти ру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лектромагнитное излуч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сстановление зрения, упражнения для гла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2"/>
          <p:cNvPicPr/>
          <p:nvPr/>
        </p:nvPicPr>
        <p:blipFill>
          <a:blip r:embed="rId1">
            <a:lum contrast="-12000"/>
          </a:blip>
          <a:srcRect l="1075" t="7373" r="4668" b="1544"/>
          <a:stretch/>
        </p:blipFill>
        <p:spPr>
          <a:xfrm>
            <a:off x="395280" y="476280"/>
            <a:ext cx="8280360" cy="590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Стпока книг"/>
          <p:cNvPicPr/>
          <p:nvPr/>
        </p:nvPicPr>
        <p:blipFill>
          <a:blip r:embed="rId2"/>
          <a:stretch/>
        </p:blipFill>
        <p:spPr>
          <a:xfrm>
            <a:off x="4500720" y="4005360"/>
            <a:ext cx="2520720" cy="227160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 flipV="1">
            <a:off x="395280" y="1267920"/>
            <a:ext cx="2664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95280" y="2781360"/>
            <a:ext cx="208908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3059280" y="1268280"/>
            <a:ext cx="187308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2987280" y="5373720"/>
            <a:ext cx="1655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1042920" y="1700280"/>
            <a:ext cx="6985080" cy="20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800000"/>
                    </a:gs>
                    <a:gs pos="100000">
                      <a:srgbClr val="cc0000"/>
                    </a:gs>
                  </a:gsLst>
                  <a:lin ang="2700000"/>
                </a:gradFill>
                <a:latin typeface="Monotype Corsiva"/>
              </a:rPr>
              <a:t>Берегите  себя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800000"/>
                  </a:gs>
                  <a:gs pos="100000">
                    <a:srgbClr val="cc00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28760" y="33073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1835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Задачи проекта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352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формирование бережного отношения к своему здоровь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Научить правилам техники безопасности при работе на компьюте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учить практической работе в коллектив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Дать навыки использования Интернет (грамотный поиск информации по определенной теме, умение отобрать главно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Пропаганда здорового образа жиз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28760" y="33073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183520" cy="14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Учебные дисциплины, близкие к теме проекта.</a:t>
            </a:r>
            <a:br>
              <a:rPr sz="2900"/>
            </a:b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83520" cy="4548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4" marL="12794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5" descr="j0234657"/>
          <p:cNvPicPr/>
          <p:nvPr/>
        </p:nvPicPr>
        <p:blipFill>
          <a:blip r:embed="rId1"/>
          <a:stretch/>
        </p:blipFill>
        <p:spPr>
          <a:xfrm>
            <a:off x="2843280" y="1916280"/>
            <a:ext cx="4025880" cy="392112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3492360" y="4941720"/>
            <a:ext cx="309744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ТИ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Oval 7"/>
          <p:cNvSpPr/>
          <p:nvPr/>
        </p:nvSpPr>
        <p:spPr>
          <a:xfrm>
            <a:off x="6696000" y="4581360"/>
            <a:ext cx="2448000" cy="865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9"/>
          <p:cNvSpPr/>
          <p:nvPr/>
        </p:nvSpPr>
        <p:spPr>
          <a:xfrm>
            <a:off x="539640" y="4581360"/>
            <a:ext cx="2448000" cy="865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2771640" y="2997360"/>
            <a:ext cx="1152720" cy="18000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726" h="1134">
                <a:moveTo>
                  <a:pt x="0" y="0"/>
                </a:moveTo>
                <a:cubicBezTo>
                  <a:pt x="121" y="19"/>
                  <a:pt x="242" y="38"/>
                  <a:pt x="363" y="227"/>
                </a:cubicBezTo>
                <a:cubicBezTo>
                  <a:pt x="484" y="416"/>
                  <a:pt x="666" y="983"/>
                  <a:pt x="726" y="113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8"/>
          <p:cNvSpPr/>
          <p:nvPr/>
        </p:nvSpPr>
        <p:spPr>
          <a:xfrm>
            <a:off x="611280" y="2349360"/>
            <a:ext cx="2448000" cy="865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И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Проблемные вопросы  проекта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Как влияет компьютер на здоровье человек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Можно ли сохранить здоровье при использовании компьютер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" descr="J0079064"/>
          <p:cNvPicPr/>
          <p:nvPr/>
        </p:nvPicPr>
        <p:blipFill>
          <a:blip r:embed="rId1"/>
          <a:stretch/>
        </p:blipFill>
        <p:spPr>
          <a:xfrm>
            <a:off x="6012000" y="4437000"/>
            <a:ext cx="252864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Этапы работы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183520" cy="5123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рганизационный (презентация учител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исковый этап (сбор и поиск информа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сследовательский этап (анкетиров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нформационный этап (обработка информа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актический этап (выпуск продукт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Заключительный этап (защита проект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Результаты представления работы</a:t>
            </a: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Информационные  през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Букле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амятка пользовател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Анализ теста – опро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Комплект рекомендаций (печатное изд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8352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Интернет ресурсы</a:t>
            </a: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183520" cy="5338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comp-doctor.ru/eye/eye.php</a:t>
            </a:r>
            <a:r>
              <a:rPr b="1" lang="en-US" sz="2400" spc="-1" strike="noStrike">
                <a:solidFill>
                  <a:srgbClr val="60b5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  компьютер и зр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http://comp-doctor.ru/psi/psi.php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компьютер и псих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http://comp-doctor.ru/articles/art_0005.php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влияние электромагнитного излу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http://comp-doctor.ru/hands/hands.php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туннельный синдр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  <a:hlinkClick r:id="rId4"/>
              </a:rPr>
              <a:t>http://comp-doctor.ru/stress/stress.php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компьютер и стре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http://comp-doctor.ru/index.php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компьютер и здоров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http://comp-doctor.ru/ost/ost.php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компьютер и позвоночн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Интернет ресурсы</a:t>
            </a:r>
            <a:r>
              <a:rPr b="1" lang="ru-RU" sz="2900" spc="-1" strike="noStrike">
                <a:solidFill>
                  <a:srgbClr val="ffc13d"/>
                </a:solidFill>
                <a:latin typeface="Verdana"/>
              </a:rPr>
              <a:t> </a:t>
            </a: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183520" cy="505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http://comp-doctor.ru/eye/eye.php </a:t>
            </a:r>
            <a:r>
              <a:rPr b="1" lang="ru-RU" sz="2800" spc="-1" strike="noStrike">
                <a:solidFill>
                  <a:srgbClr val="60b5cc"/>
                </a:solidFill>
                <a:latin typeface="Times New Roman"/>
              </a:rPr>
              <a:t>как защитить гл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http://comp-doctor.ru/eye/eye_upr.php </a:t>
            </a:r>
            <a:r>
              <a:rPr b="1" lang="ru-RU" sz="2800" spc="-1" strike="noStrike">
                <a:solidFill>
                  <a:srgbClr val="60b5cc"/>
                </a:solidFill>
                <a:latin typeface="Times New Roman"/>
              </a:rPr>
              <a:t>гимнастика для гла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http://comp-doctor.ru/sovet/sovet_pp3.php </a:t>
            </a:r>
            <a:r>
              <a:rPr b="1" lang="ru-RU" sz="2800" spc="-1" strike="noStrike">
                <a:solidFill>
                  <a:srgbClr val="60b5cc"/>
                </a:solidFill>
                <a:latin typeface="Times New Roman"/>
              </a:rPr>
              <a:t>как правильно сиде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www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klyaksa.ne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99ff"/>
                </a:solidFill>
                <a:latin typeface="Times New Roman"/>
              </a:rPr>
              <a:t>«Гигиенические требования к персональным электронно-вычислительным машинам и организации работы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99ff"/>
                </a:solidFill>
                <a:latin typeface="Times New Roman"/>
              </a:rPr>
              <a:t>«Санитарно-эпидемиологические правила и нормативы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пкина М.М.</dc:creator>
  <dc:description/>
  <dc:language>en-US</dc:language>
  <cp:lastModifiedBy>эльф</cp:lastModifiedBy>
  <dcterms:modified xsi:type="dcterms:W3CDTF">2012-05-18T07:45:14Z</dcterms:modified>
  <cp:revision>66</cp:revision>
  <dc:subject/>
  <dc:title>Представление темы проекта:</dc:title>
</cp:coreProperties>
</file>